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B3C7-9CF5-417E-B4C8-28061629D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7018-CF92-48B5-B097-245F0F8CE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FA32-5169-4A00-946D-A3D20A9FF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1889-EDE6-40E4-8656-542E72828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F1F8-C4B2-4945-89F1-49DB9BA9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FA73-653F-4931-BC57-2622D1A0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14F5-0FB1-4D9E-8B47-A21A6196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694-1005-448B-8C22-52D8E4C1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21A-8088-4920-BF34-5F2BD195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01E-0DDC-4B54-BA55-2FCC5532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97B2-205C-497F-8198-CCCF6816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62EA-62E8-48E1-88C0-AD7BF027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9FF9-6052-4CC6-8BDC-4EFD5364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4238-4670-49ED-AB2D-B1F550C4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4F22-4D30-4180-BFA6-A81950A6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F070-C6B1-4438-9BD0-76B3F976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AA00-53EB-4D21-A59E-89345436F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22.xml"/><Relationship Id="rId7" Type="http://schemas.openxmlformats.org/officeDocument/2006/relationships/slide" Target="slide3.xml"/><Relationship Id="rId8" Type="http://schemas.openxmlformats.org/officeDocument/2006/relationships/slide" Target="slide8.xml"/><Relationship Id="rId9" Type="http://schemas.openxmlformats.org/officeDocument/2006/relationships/slide" Target="slide13.xml"/><Relationship Id="rId10" Type="http://schemas.openxmlformats.org/officeDocument/2006/relationships/slide" Target="slide18.xml"/><Relationship Id="rId11" Type="http://schemas.openxmlformats.org/officeDocument/2006/relationships/slide" Target="slide23.xml"/><Relationship Id="rId12" Type="http://schemas.openxmlformats.org/officeDocument/2006/relationships/slide" Target="slide4.xml"/><Relationship Id="rId13" Type="http://schemas.openxmlformats.org/officeDocument/2006/relationships/slide" Target="slide9.xml"/><Relationship Id="rId14" Type="http://schemas.openxmlformats.org/officeDocument/2006/relationships/slide" Target="slide14.xml"/><Relationship Id="rId15" Type="http://schemas.openxmlformats.org/officeDocument/2006/relationships/slide" Target="slide19.xml"/><Relationship Id="rId16" Type="http://schemas.openxmlformats.org/officeDocument/2006/relationships/slide" Target="slide24.xml"/><Relationship Id="rId17" Type="http://schemas.openxmlformats.org/officeDocument/2006/relationships/slide" Target="slide5.xml"/><Relationship Id="rId18" Type="http://schemas.openxmlformats.org/officeDocument/2006/relationships/slide" Target="slide10.xml"/><Relationship Id="rId19" Type="http://schemas.openxmlformats.org/officeDocument/2006/relationships/slide" Target="slide15.xml"/><Relationship Id="rId20" Type="http://schemas.openxmlformats.org/officeDocument/2006/relationships/slide" Target="slide20.xml"/><Relationship Id="rId21" Type="http://schemas.openxmlformats.org/officeDocument/2006/relationships/slide" Target="slide25.xml"/><Relationship Id="rId22" Type="http://schemas.openxmlformats.org/officeDocument/2006/relationships/slide" Target="slide6.xml"/><Relationship Id="rId23" Type="http://schemas.openxmlformats.org/officeDocument/2006/relationships/slide" Target="slide11.xml"/><Relationship Id="rId24" Type="http://schemas.openxmlformats.org/officeDocument/2006/relationships/slide" Target="slide16.xml"/><Relationship Id="rId25" Type="http://schemas.openxmlformats.org/officeDocument/2006/relationships/slide" Target="slide21.xml"/><Relationship Id="rId26" Type="http://schemas.openxmlformats.org/officeDocument/2006/relationships/slide" Target="slide26.xml"/><Relationship Id="rId27" Type="http://schemas.openxmlformats.org/officeDocument/2006/relationships/image" Target="../media/image2.png"/><Relationship Id="rId2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60" descr="mels_question_md_blk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259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co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rrari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rrari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ocabul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ocabulary Con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6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162" descr="ReverseLogo"/>
          <p:cNvPicPr/>
          <p:nvPr/>
        </p:nvPicPr>
        <p:blipFill>
          <a:blip r:embed="rId27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232720" y="1752480"/>
            <a:ext cx="509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es water affect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owth of plant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799280" y="1752480"/>
            <a:ext cx="619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plant was most success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terrarium and how did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w it was successfu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212920" y="1752480"/>
            <a:ext cx="417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terrariu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2213280" y="1752480"/>
            <a:ext cx="534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5 factors did you 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create a terrarium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215080" y="1752480"/>
            <a:ext cx="61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id the nonliving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fluence the living factor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terrarium?  Give an exam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2214000" y="1752480"/>
            <a:ext cx="586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environmental fa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ayed the biggest role in y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s growth?  Expl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215440" y="1752480"/>
            <a:ext cx="563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factors might affect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owth of your plants if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peated the investigation at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fferent time of y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2212200" y="1752480"/>
            <a:ext cx="445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living th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214000" y="1752480"/>
            <a:ext cx="502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nonliving th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2214720" y="1752480"/>
            <a:ext cx="536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germinate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233080" y="1752480"/>
            <a:ext cx="430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 there living th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ecosyste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239920" y="1752480"/>
            <a:ext cx="5126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biotic and abio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ctors?  Give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bo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2214000" y="1752480"/>
            <a:ext cx="506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dormant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212560" y="1752480"/>
            <a:ext cx="557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organis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212560" y="1752480"/>
            <a:ext cx="557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environm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2212560" y="1752480"/>
            <a:ext cx="569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environment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cto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212560" y="1752480"/>
            <a:ext cx="557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bio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212560" y="1752480"/>
            <a:ext cx="557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viable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ont.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233080" y="1752480"/>
            <a:ext cx="4318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ve two example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ngs you may find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co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558440" y="1755720"/>
            <a:ext cx="637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one way humans intera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th ecosyste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821880" y="1676520"/>
            <a:ext cx="671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ecosyst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wo examples of ecosyste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235960" y="1752480"/>
            <a:ext cx="490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 humans helping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rting ecosystems? G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sons to support y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swer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systems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217600" y="1752480"/>
            <a:ext cx="43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gard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s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279520" y="1752480"/>
            <a:ext cx="508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grows below the so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 a pla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s 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213280" y="1752480"/>
            <a:ext cx="549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water a living or nonli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ng? Expl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rariums 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Jessica Ortolf</cp:lastModifiedBy>
  <dcterms:modified xsi:type="dcterms:W3CDTF">2013-10-02T11:42:53Z</dcterms:modified>
  <cp:revision>17</cp:revision>
  <dc:subject/>
  <dc:title>Slide 1</dc:title>
</cp:coreProperties>
</file>